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19F5-7BC6-4FFF-8466-2129B23BC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74D2-B448-41DE-AEC0-584C6382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0949-D482-4EC1-9561-54969A567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6DB9-A94A-4598-889C-90D85E60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CF7B-9F67-4411-8C84-B7FA7FA7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3B91-665B-47F2-9298-A06B391E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FFE4-390F-406D-AE0A-D1DC25BA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6D0B-2A21-4BB5-8EC1-4A04742A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D883-C3B0-4E85-BA8D-D66C908C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384B-542B-4E45-B7B7-2C14F83B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067B-060A-4056-B54F-BBD169C4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BF0B-321A-476B-9FCB-E9CB4761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FB60-9CEB-4026-BD6A-01B68200B5FD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FRUMOSU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Estetică, clasa a XII-a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Adrian Iorgulescu, Doina Pungă, Gheorghe Stroia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Calibri"/>
              </a:rPr>
              <a:t>Categorie fundamentală a esteticii, frumosul reflectă însu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Calibri"/>
              </a:rPr>
              <a:t>iri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Calibri"/>
              </a:rPr>
              <a:t>i proprietă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le naturii, vi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i socia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le cre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ilor umane capabile să trezească în personalitatea valorificatoare stări de satisfa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, emo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bucurie estetică, precum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ptitudini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înzestrările specifice ale fi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i ome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 generatoare a sentimentelor de plăcer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dmir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. Frumosul oglindeşte deopotrivă ordinea lumii exterioare, obiective şi armonia trăirilor interioare, subiective, sociabilitatea şi individualitatea omului, îmbinând planul senzorialităţii afective cu cel al raţionalităţii lucide în efortul de a obţine o imagine globală unitară asupra condiţiei uman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 plan european, primele reflecţii asupra frumosului s-au ivit în orizontul spiritual elen. Întrebându-se „ce e frumosu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”, Platon îl aprecia ca pe un lucru folositor, potrivit scopului său, făcut cu meşteşug şi care produce o plăcere recepţionată cu ajutorul văzului şi auzulu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el, ca şi pentru mulţi alţii, nu toate plăcerile sunt estetice, ci numai acelea care ţin de simţurile superioare, singurele apte să asigure o stare agreabilă, de desfătare spiritual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 trebuie să năzuieşti către orice plăcere, spunea Democrit, ci numai către plăcerea pentru ceea ce este frumos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şi de natură ideală, abstractă, plasat ca arhetip universal în zonele ideii pure, frumosul, afirma Platon, are strânse contacte cu binele, „identificându-se pretutindeni cu măsura şi proporţia”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292720" y="177336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rile de existenţă ale frumosului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osul natural, asigurat de existenţa elementelor primordial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anic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zic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mic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e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osul uman, constituit di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useţea corpului omenesc, alcătuită în principal din elemente naturale, native, dar şi dintr-o îndelungată şlefuire civilizatoar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useţea sufletească, rezultat aproape integral al eforturilor de înnobilare uman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useţea etică a vastelor relaţii dintre oamen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useţea ambientală a locului şi rezultatele muncii omeneşti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osul artistic. Existenţa sa este asigurată […] 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urile reflectării frumuseţii din realitate;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cităţile demiurgice ale omului de artă care, pornind de la lumea reală, făureşte o realitate nouă.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LiviaT</cp:lastModifiedBy>
  <dcterms:modified xsi:type="dcterms:W3CDTF">2012-03-14T12:49:49Z</dcterms:modified>
  <cp:revision>37</cp:revision>
  <dc:subject/>
  <dc:title>SALARIUL</dc:title>
</cp:coreProperties>
</file>